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A46-452D-4792-8403-2159D4A9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CEE-A94E-4916-9B77-237DAFD0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790-D988-482F-A927-80A92357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088-F3FF-4609-9FD2-E8EE20DF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05E4-BF73-4732-AFAB-2F8C58C0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0E6B-806A-4667-AB6C-EC7DD105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FA97-F286-4A9A-9123-093A1906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099A-9280-45D2-BBE1-C62FF3B4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DED1-422C-484B-BE75-9D787290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2444-1E3E-4BB2-9156-8949DA8D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5BB2-70CF-4F40-8F02-F09793EA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39F-1E29-434E-99FB-00939485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7F48-9320-478D-90A1-D4811D98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0173-30D6-4EFB-B6F6-ABA01BD2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4286-B3FD-40E5-B5AC-5B434D2C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B3DC-989D-4640-BDD0-580B3D3D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D91A-6C56-4703-A24E-66FD594C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86B-A945-420E-887E-669E9196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018-C58C-4266-9F35-D4420DC7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F84-4E83-4734-9362-8431E3CA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B11-B998-41CD-AB02-6A21124E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3AB-DBB1-45CE-ADE7-2C64E319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CED-7BAB-4D76-A147-66E0AF67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9F7-9137-4E14-A0B9-8B73EE7E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F400-9153-4F9C-9C23-E555C30311C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AD76-00B4-4D56-8BFA-89B21EF7ADF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bskids.org/itsmylife/celeebs/audio/taylor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5000"/>
            </a:b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I: Data Collection: Interview Techniq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Ask to the chosen respondent/s an appointment: time, venue, permission to record etc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interviewer decide the venue should be prepared with a friendly atmosphere, not noisy, neutral without influences for the interview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Estimate the length of the inter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ou cannot conduct it in 2 times or be interrupted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Record the inter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portant to listen and transcribe the answer to code them easi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Arial"/>
              </a:rPr>
              <a:t>Notice the interviewee behaviour, attitudes.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66cc"/>
                </a:solidFill>
                <a:latin typeface="Arial"/>
              </a:rPr>
              <a:t>Make a blue/pri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90092"/>
                </a:solidFill>
                <a:latin typeface="Arial"/>
              </a:rPr>
              <a:t>Remember questions should b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66"/>
                </a:solidFill>
                <a:latin typeface="Arial"/>
              </a:rPr>
              <a:t>Cl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Non l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Arial"/>
              </a:rPr>
              <a:t>Avoid jarg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One at a ti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Use KISS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collect interview d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Before designing the intervie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the purp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The results you need to 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the methods of analys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Decide how to present results/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Interview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How to collect interview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00f0"/>
                </a:solidFill>
                <a:latin typeface="Arial"/>
              </a:rPr>
              <a:t>Choose a topic of your inter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Design an interview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Defining what is the pur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Define how you will collec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Define how you will analyz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Arial"/>
              </a:rPr>
              <a:t>Define how you will presen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785880" y="4202280"/>
            <a:ext cx="4967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106560" bIns="1065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pbskids.org/itsmylife/celeebs/audio/taylo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Recall prior 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Types of questions i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Types of questions i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Examples of the 3 types of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Analyzing an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Interviewer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all prior knowled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is a surve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method used for survey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ased on what we choose the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advantages of each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What are the tool used in each meth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questions in the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Structured interview (close/en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Unstructured interview (open/en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Semi/Structured interview (mix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Arial"/>
              </a:rPr>
              <a:t>What are the advantages and disadvantages of these types of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How to ask the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66"/>
                </a:solidFill>
                <a:latin typeface="Arial"/>
              </a:rPr>
              <a:t>Examples of the 3 types of questions</a:t>
            </a:r>
            <a:r>
              <a:rPr b="1" lang="en-US" sz="3900" spc="-1" strike="noStrike">
                <a:solidFill>
                  <a:srgbClr val="3366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"/>
              </a:rPr>
              <a:t>Structured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Do you think that Qatar should bid for the 2016 Olympics? Semi/Structured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Likert scale, Dichotomu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Un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Arial"/>
              </a:rPr>
              <a:t>What do you think about Qatar biding for the 2016 Olympic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Arial"/>
              </a:rPr>
              <a:t>Semi/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Do you think that Qatar should bid for the 2016 Olympics?……..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yzing an int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Arial"/>
              </a:rPr>
              <a:t>Activity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yze the transcript of the intervie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ff"/>
                </a:solidFill>
                <a:latin typeface="Arial"/>
              </a:rPr>
              <a:t>What type of interview is this?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66ff"/>
                </a:solidFill>
                <a:latin typeface="Arial"/>
              </a:rPr>
              <a:t>(Structured, Unstructured or semi/structur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Arial"/>
              </a:rPr>
              <a:t>Which are open/ended and which close/ended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Are the questions biased/leading ques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er ski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viewer mu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Make the interviewee feel comfor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Be flex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Notice all gestures, facial expressions, behaviours and attitude of interviewe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Understand when it is necessary to ask open/ended questions to have better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66"/>
                </a:solidFill>
                <a:latin typeface="Arial"/>
              </a:rPr>
              <a:t>Do not influence the interviewee with your ges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view process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Arial"/>
              </a:rPr>
              <a:t>Make the seg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Design the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Arial"/>
              </a:rPr>
              <a:t>Seek for “Informed Consent”of chosen respondent/s if they agree to be interviewed, explain the purpose and inform them about all they need to know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see ethics of surv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26:51Z</dcterms:created>
  <dc:creator>user</dc:creator>
  <dc:description/>
  <dc:language>en-US</dc:language>
  <cp:lastModifiedBy>t.alnuimi</cp:lastModifiedBy>
  <dcterms:modified xsi:type="dcterms:W3CDTF">2008-08-07T10:44:22Z</dcterms:modified>
  <cp:revision>59</cp:revision>
  <dc:subject/>
  <dc:title>Course: Fundamentals of Research</dc:title>
</cp:coreProperties>
</file>